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908800" cy="9334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680" y="788760"/>
            <a:ext cx="723096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9080" y="2583000"/>
            <a:ext cx="8267400" cy="21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spcBef>
                <a:spcPts val="2750"/>
              </a:spcBef>
              <a:buNone/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9080" y="4903200"/>
            <a:ext cx="8267400" cy="21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spcBef>
                <a:spcPts val="2750"/>
              </a:spcBef>
              <a:buNone/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680" y="788760"/>
            <a:ext cx="723096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49080" y="2583000"/>
            <a:ext cx="4034160" cy="21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spcBef>
                <a:spcPts val="2750"/>
              </a:spcBef>
              <a:buNone/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5200" y="2583000"/>
            <a:ext cx="4034160" cy="21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spcBef>
                <a:spcPts val="2750"/>
              </a:spcBef>
              <a:buNone/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9080" y="4903200"/>
            <a:ext cx="4034160" cy="21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spcBef>
                <a:spcPts val="2750"/>
              </a:spcBef>
              <a:buNone/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0" y="4903200"/>
            <a:ext cx="4034160" cy="21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spcBef>
                <a:spcPts val="2750"/>
              </a:spcBef>
              <a:buNone/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4680" y="788760"/>
            <a:ext cx="723096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49080" y="2583000"/>
            <a:ext cx="2661840" cy="21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spcBef>
                <a:spcPts val="2750"/>
              </a:spcBef>
              <a:buNone/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44480" y="2583000"/>
            <a:ext cx="2661840" cy="21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spcBef>
                <a:spcPts val="2750"/>
              </a:spcBef>
              <a:buNone/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39880" y="2583000"/>
            <a:ext cx="2661840" cy="21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spcBef>
                <a:spcPts val="2750"/>
              </a:spcBef>
              <a:buNone/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49080" y="4903200"/>
            <a:ext cx="2661840" cy="21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spcBef>
                <a:spcPts val="2750"/>
              </a:spcBef>
              <a:buNone/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44480" y="4903200"/>
            <a:ext cx="2661840" cy="21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spcBef>
                <a:spcPts val="2750"/>
              </a:spcBef>
              <a:buNone/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39880" y="4903200"/>
            <a:ext cx="2661840" cy="21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spcBef>
                <a:spcPts val="2750"/>
              </a:spcBef>
              <a:buNone/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4680" y="788760"/>
            <a:ext cx="723096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49080" y="2583000"/>
            <a:ext cx="82674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4680" y="788760"/>
            <a:ext cx="723096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9080" y="2583000"/>
            <a:ext cx="82674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spcBef>
                <a:spcPts val="2750"/>
              </a:spcBef>
              <a:buNone/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680" y="788760"/>
            <a:ext cx="723096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49080" y="2583000"/>
            <a:ext cx="40341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spcBef>
                <a:spcPts val="2750"/>
              </a:spcBef>
              <a:buNone/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5200" y="2583000"/>
            <a:ext cx="40341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spcBef>
                <a:spcPts val="2750"/>
              </a:spcBef>
              <a:buNone/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680" y="788760"/>
            <a:ext cx="723096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4680" y="788760"/>
            <a:ext cx="7230960" cy="146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680" y="788760"/>
            <a:ext cx="723096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49080" y="2583000"/>
            <a:ext cx="4034160" cy="21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spcBef>
                <a:spcPts val="2750"/>
              </a:spcBef>
              <a:buNone/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5200" y="2583000"/>
            <a:ext cx="40341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spcBef>
                <a:spcPts val="2750"/>
              </a:spcBef>
              <a:buNone/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49080" y="4903200"/>
            <a:ext cx="4034160" cy="21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spcBef>
                <a:spcPts val="2750"/>
              </a:spcBef>
              <a:buNone/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4680" y="788760"/>
            <a:ext cx="723096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49080" y="2583000"/>
            <a:ext cx="40341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spcBef>
                <a:spcPts val="2750"/>
              </a:spcBef>
              <a:buNone/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5200" y="2583000"/>
            <a:ext cx="4034160" cy="21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spcBef>
                <a:spcPts val="2750"/>
              </a:spcBef>
              <a:buNone/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5200" y="4903200"/>
            <a:ext cx="4034160" cy="21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spcBef>
                <a:spcPts val="2750"/>
              </a:spcBef>
              <a:buNone/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4680" y="788760"/>
            <a:ext cx="723096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49080" y="2583000"/>
            <a:ext cx="4034160" cy="21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spcBef>
                <a:spcPts val="2750"/>
              </a:spcBef>
              <a:buNone/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5200" y="2583000"/>
            <a:ext cx="4034160" cy="21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spcBef>
                <a:spcPts val="2750"/>
              </a:spcBef>
              <a:buNone/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49080" y="4903200"/>
            <a:ext cx="8267400" cy="21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spcBef>
                <a:spcPts val="2750"/>
              </a:spcBef>
              <a:buNone/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40480"/>
            <a:ext cx="9144000" cy="317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539040"/>
            <a:ext cx="786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Programas Ejecutivos - Graduate School of 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-27000"/>
            <a:ext cx="9144000" cy="665280"/>
          </a:xfrm>
          <a:prstGeom prst="rect">
            <a:avLst/>
          </a:prstGeom>
          <a:solidFill>
            <a:srgbClr val="6604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74680" y="788760"/>
            <a:ext cx="7230960" cy="3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49080" y="2583000"/>
            <a:ext cx="82674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spcBef>
                <a:spcPts val="2750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90440">
              <a:spcBef>
                <a:spcPts val="2750"/>
              </a:spcBef>
              <a:buClr>
                <a:srgbClr val="66047a"/>
              </a:buClr>
              <a:buSzPct val="85000"/>
              <a:buFont typeface="Wingdings" charset="2"/>
              <a:buChar char=""/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90440" indent="-190440">
              <a:spcBef>
                <a:spcPts val="2750"/>
              </a:spcBef>
              <a:buClr>
                <a:srgbClr val="6600b2"/>
              </a:buClr>
              <a:buFont typeface="Arial"/>
              <a:buChar char="–"/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90440" indent="-190440">
              <a:spcBef>
                <a:spcPts val="2750"/>
              </a:spcBef>
              <a:buClr>
                <a:srgbClr val="6600b2"/>
              </a:buClr>
              <a:buFont typeface="Arial"/>
              <a:buChar char="–"/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90440" indent="-190440">
              <a:spcBef>
                <a:spcPts val="2750"/>
              </a:spcBef>
              <a:buClr>
                <a:srgbClr val="6600b2"/>
              </a:buClr>
              <a:buFont typeface="Arial"/>
              <a:buChar char="•"/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90440" indent="-190440"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90440" indent="-190440"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540480"/>
            <a:ext cx="9144000" cy="317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7000"/>
            <a:ext cx="9144000" cy="665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64720" y="2349360"/>
            <a:ext cx="179280" cy="1806840"/>
          </a:xfrm>
          <a:prstGeom prst="rect">
            <a:avLst/>
          </a:prstGeom>
          <a:solidFill>
            <a:srgbClr val="a72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0" y="2349360"/>
            <a:ext cx="91440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0" y="4149720"/>
            <a:ext cx="91440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2205000"/>
            <a:ext cx="78487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3582"/>
                </a:solidFill>
                <a:latin typeface="Verdana"/>
              </a:rPr>
              <a:t>Tratamiento Fiscal del Fideicomiso</a:t>
            </a:r>
            <a:br>
              <a:rPr sz="3200"/>
            </a:br>
            <a:r>
              <a:rPr b="1" lang="en-US" sz="3200" spc="-1" strike="noStrike">
                <a:solidFill>
                  <a:srgbClr val="a72501"/>
                </a:solidFill>
                <a:latin typeface="Verdana"/>
              </a:rPr>
              <a:t>Situación Actual y Perspec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227640" y="5013360"/>
            <a:ext cx="2324160" cy="933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974080" y="836640"/>
            <a:ext cx="169920" cy="5472000"/>
          </a:xfrm>
          <a:prstGeom prst="rect">
            <a:avLst/>
          </a:prstGeom>
          <a:solidFill>
            <a:srgbClr val="a72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0" y="836640"/>
            <a:ext cx="91440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0" y="6308640"/>
            <a:ext cx="91440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760" y="169920"/>
            <a:ext cx="473292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Fideicomisos: ¿dónde esta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6760" y="1052640"/>
            <a:ext cx="848196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14720" indent="-41472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a72501"/>
                </a:solidFill>
                <a:latin typeface="Verdana"/>
              </a:rPr>
              <a:t>Valu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4720" indent="-41472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a72501"/>
                </a:solidFill>
                <a:latin typeface="Verdana"/>
              </a:rPr>
              <a:t>Inmuebles : Presun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4720" indent="-41472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Art. 18 LPT: aplicable cuando el valor asignado a la transferencia difiere sustancialmente del valor de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415080">
              <a:lnSpc>
                <a:spcPct val="100000"/>
              </a:lnSpc>
              <a:spcBef>
                <a:spcPts val="751"/>
              </a:spcBef>
              <a:buClr>
                <a:srgbClr val="66047a"/>
              </a:buClr>
              <a:buSzPct val="85000"/>
              <a:buFont typeface="Wingdings" charset="2"/>
              <a:buChar char=""/>
              <a:tabLst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Admite prueba en contrar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4720" indent="-41472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Fideicomisos “al costo”: el Fisco puede auditar el valor de la construcción de modo de indentificar brechas entre el valor de mercado de esta y el valor asignado a los inmue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415080">
              <a:lnSpc>
                <a:spcPct val="100000"/>
              </a:lnSpc>
              <a:spcBef>
                <a:spcPts val="751"/>
              </a:spcBef>
              <a:buClr>
                <a:srgbClr val="66047a"/>
              </a:buClr>
              <a:buSzPct val="85000"/>
              <a:buFont typeface="Wingdings" charset="2"/>
              <a:buChar char=""/>
              <a:tabLst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Detección de aplicación de fondos irreg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415080">
              <a:lnSpc>
                <a:spcPct val="100000"/>
              </a:lnSpc>
              <a:spcBef>
                <a:spcPts val="751"/>
              </a:spcBef>
              <a:buClr>
                <a:srgbClr val="66047a"/>
              </a:buClr>
              <a:buSzPct val="85000"/>
              <a:buFont typeface="Wingdings" charset="2"/>
              <a:buChar char=""/>
              <a:tabLst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Dictámenes 8/2010, 9/2010 DI AS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4720" indent="-41472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974080" y="836640"/>
            <a:ext cx="169920" cy="5472000"/>
          </a:xfrm>
          <a:prstGeom prst="rect">
            <a:avLst/>
          </a:prstGeom>
          <a:solidFill>
            <a:srgbClr val="a72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0" y="836640"/>
            <a:ext cx="91440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0" y="6308640"/>
            <a:ext cx="91440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8760" y="169920"/>
            <a:ext cx="473292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Fideicomisos: ¿dónde esta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6760" y="1052640"/>
            <a:ext cx="8626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19040" indent="-41904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a72501"/>
                </a:solidFill>
                <a:latin typeface="Verdana"/>
              </a:rPr>
              <a:t>Fideicomiso Fiduciante = Beneficiario del Paí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Fideicomisos del párrafo incorporado a continuación del inciso d) de 49 LI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419400">
              <a:lnSpc>
                <a:spcPct val="100000"/>
              </a:lnSpc>
              <a:spcBef>
                <a:spcPts val="751"/>
              </a:spcBef>
              <a:buClr>
                <a:srgbClr val="66047a"/>
              </a:buClr>
              <a:buSzPct val="85000"/>
              <a:buFont typeface="Wingdings" charset="2"/>
              <a:buChar char=""/>
              <a:tabLst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Se aplican disposiciones del art. 50 LI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419400">
              <a:lnSpc>
                <a:spcPct val="100000"/>
              </a:lnSpc>
              <a:spcBef>
                <a:spcPts val="751"/>
              </a:spcBef>
              <a:buClr>
                <a:srgbClr val="66047a"/>
              </a:buClr>
              <a:buSzPct val="85000"/>
              <a:buFont typeface="Wingdings" charset="2"/>
              <a:buChar char=""/>
              <a:tabLst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Asignación de resultados a los benefici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¿Pueden coexistir fiduciantes = beneficiarios del país c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419400">
              <a:lnSpc>
                <a:spcPct val="100000"/>
              </a:lnSpc>
              <a:spcBef>
                <a:spcPts val="751"/>
              </a:spcBef>
              <a:buClr>
                <a:srgbClr val="66047a"/>
              </a:buClr>
              <a:buSzPct val="85000"/>
              <a:buFont typeface="Wingdings" charset="2"/>
              <a:buChar char=""/>
              <a:tabLst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Beneficiarios no fiduciantes?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419400">
              <a:lnSpc>
                <a:spcPct val="100000"/>
              </a:lnSpc>
              <a:spcBef>
                <a:spcPts val="751"/>
              </a:spcBef>
              <a:buClr>
                <a:srgbClr val="66047a"/>
              </a:buClr>
              <a:buSzPct val="85000"/>
              <a:buFont typeface="Wingdings" charset="2"/>
              <a:buChar char=""/>
              <a:tabLst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Fiduciantes = beneficiarios del Exterio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sin alterar criterio de atribución de rentas para F = B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419400">
              <a:lnSpc>
                <a:spcPct val="100000"/>
              </a:lnSpc>
              <a:spcBef>
                <a:spcPts val="751"/>
              </a:spcBef>
              <a:buClr>
                <a:srgbClr val="66047a"/>
              </a:buClr>
              <a:buSzPct val="85000"/>
              <a:buFont typeface="Wingdings" charset="2"/>
              <a:buChar char=""/>
              <a:tabLst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974080" y="836640"/>
            <a:ext cx="169920" cy="5472000"/>
          </a:xfrm>
          <a:prstGeom prst="rect">
            <a:avLst/>
          </a:prstGeom>
          <a:solidFill>
            <a:srgbClr val="a72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0" y="836640"/>
            <a:ext cx="91440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0" y="6308640"/>
            <a:ext cx="91440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8760" y="169920"/>
            <a:ext cx="473292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Fideicomisos: ¿dónde esta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6760" y="1052640"/>
            <a:ext cx="8626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19040" indent="-41904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a72501"/>
                </a:solidFill>
                <a:latin typeface="Verdana"/>
              </a:rPr>
              <a:t>Fideicomiso Fiduciante = Beneficiario del País (Cont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Criterio Fiscal: posibilidad no habilitada por la L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419400">
              <a:lnSpc>
                <a:spcPct val="100000"/>
              </a:lnSpc>
              <a:spcBef>
                <a:spcPts val="751"/>
              </a:spcBef>
              <a:buClr>
                <a:srgbClr val="66047a"/>
              </a:buClr>
              <a:buSzPct val="85000"/>
              <a:buFont typeface="Wingdings" charset="2"/>
              <a:buChar char=""/>
              <a:tabLst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a72501"/>
                </a:solidFill>
                <a:latin typeface="Verdana"/>
              </a:rPr>
              <a:t>Criterio controvertido en la doctrina</a:t>
            </a: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Situación del “cambio de residenci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419400">
              <a:lnSpc>
                <a:spcPct val="100000"/>
              </a:lnSpc>
              <a:spcBef>
                <a:spcPts val="751"/>
              </a:spcBef>
              <a:buClr>
                <a:srgbClr val="66047a"/>
              </a:buClr>
              <a:buSzPct val="85000"/>
              <a:buFont typeface="Wingdings" charset="2"/>
              <a:buChar char=""/>
              <a:tabLst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Afectación de la situación de todo el fideicomi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419400">
              <a:lnSpc>
                <a:spcPct val="100000"/>
              </a:lnSpc>
              <a:spcBef>
                <a:spcPts val="751"/>
              </a:spcBef>
              <a:buClr>
                <a:srgbClr val="66047a"/>
              </a:buClr>
              <a:buSzPct val="85000"/>
              <a:buFont typeface="Wingdings" charset="2"/>
              <a:buChar char=""/>
              <a:tabLst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Tratamiento s/ punto 6. inc. a) art. 69 LI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419400">
              <a:lnSpc>
                <a:spcPct val="100000"/>
              </a:lnSpc>
              <a:spcBef>
                <a:spcPts val="751"/>
              </a:spcBef>
              <a:buClr>
                <a:srgbClr val="66047a"/>
              </a:buClr>
              <a:buSzPct val="85000"/>
              <a:buFont typeface="Wingdings" charset="2"/>
              <a:buChar char=""/>
              <a:tabLst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Asimilable a “socieda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974080" y="836640"/>
            <a:ext cx="169920" cy="5472000"/>
          </a:xfrm>
          <a:prstGeom prst="rect">
            <a:avLst/>
          </a:prstGeom>
          <a:solidFill>
            <a:srgbClr val="a72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0" y="836640"/>
            <a:ext cx="91440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0" y="6308640"/>
            <a:ext cx="91440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8760" y="169920"/>
            <a:ext cx="473292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Fideicomisos: ¿dónde esta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6760" y="1052640"/>
            <a:ext cx="8626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19040" indent="-41904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a72501"/>
                </a:solidFill>
                <a:latin typeface="Verdana"/>
              </a:rPr>
              <a:t>Cesiones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a72501"/>
                </a:solidFill>
                <a:latin typeface="Verdana"/>
              </a:rPr>
              <a:t>Efectos sobre el Ced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263582"/>
                </a:solidFill>
                <a:latin typeface="Verdana"/>
              </a:rPr>
              <a:t>Generan ganancias gravadas para su titul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263582"/>
                </a:solidFill>
                <a:latin typeface="Verdana"/>
              </a:rPr>
              <a:t>Si se verifican condi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419400">
              <a:lnSpc>
                <a:spcPct val="100000"/>
              </a:lnSpc>
              <a:spcBef>
                <a:spcPts val="751"/>
              </a:spcBef>
              <a:buClr>
                <a:srgbClr val="66047a"/>
              </a:buClr>
              <a:buSzPct val="85000"/>
              <a:buFont typeface="Wingdings" charset="2"/>
              <a:buChar char=""/>
              <a:tabLst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a72501"/>
                </a:solidFill>
                <a:latin typeface="Verdana"/>
              </a:rPr>
              <a:t>Habitualidad</a:t>
            </a:r>
            <a:r>
              <a:rPr b="1" lang="en-US" sz="2000" spc="-1" strike="noStrike">
                <a:solidFill>
                  <a:srgbClr val="263582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a72501"/>
                </a:solidFill>
                <a:latin typeface="Verdana"/>
              </a:rPr>
              <a:t>TEMA CENT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263582"/>
                </a:solidFill>
                <a:latin typeface="Verdana"/>
              </a:rPr>
              <a:t>No gravadas si no se verifican condiciones de art. 2 LI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74080" y="836640"/>
            <a:ext cx="169920" cy="5472000"/>
          </a:xfrm>
          <a:prstGeom prst="rect">
            <a:avLst/>
          </a:prstGeom>
          <a:solidFill>
            <a:srgbClr val="a72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0" y="836640"/>
            <a:ext cx="91440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0" y="6308640"/>
            <a:ext cx="91440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8760" y="169920"/>
            <a:ext cx="473292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Fideicomisos: ¿dónde esta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6760" y="1052640"/>
            <a:ext cx="8626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81240" indent="-38124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a72501"/>
                </a:solidFill>
                <a:latin typeface="Verdana"/>
              </a:rPr>
              <a:t>Cesiones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1240" indent="-38124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a72501"/>
                </a:solidFill>
                <a:latin typeface="Verdana"/>
              </a:rPr>
              <a:t>Efectos sobre el Fideicomi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1240" indent="-38124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263582"/>
                </a:solidFill>
                <a:latin typeface="Verdana"/>
              </a:rPr>
              <a:t>En el caso de Fideicomisos del párrafo incorporado a continuación del inciso d) de 49 LI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381600">
              <a:lnSpc>
                <a:spcPct val="100000"/>
              </a:lnSpc>
              <a:spcBef>
                <a:spcPts val="751"/>
              </a:spcBef>
              <a:buClr>
                <a:srgbClr val="66047a"/>
              </a:buClr>
              <a:buSzPct val="85000"/>
              <a:buFont typeface="Wingdings" charset="2"/>
              <a:buChar char=""/>
              <a:tabLst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381600">
              <a:lnSpc>
                <a:spcPct val="100000"/>
              </a:lnSpc>
              <a:spcBef>
                <a:spcPts val="751"/>
              </a:spcBef>
              <a:buClr>
                <a:srgbClr val="66047a"/>
              </a:buClr>
              <a:buSzPct val="85000"/>
              <a:buFont typeface="Wingdings" charset="2"/>
              <a:buChar char=""/>
              <a:tabLst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a72501"/>
                </a:solidFill>
                <a:latin typeface="Verdana"/>
              </a:rPr>
              <a:t>Cesión de “posición contractual completa” a otro F = B del País: NO AFECTA TRATAMIENTO IMPOSITIVO DEL FIDEICOMI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381600">
              <a:lnSpc>
                <a:spcPct val="100000"/>
              </a:lnSpc>
              <a:spcBef>
                <a:spcPts val="751"/>
              </a:spcBef>
              <a:buClr>
                <a:srgbClr val="66047a"/>
              </a:buClr>
              <a:buSzPct val="85000"/>
              <a:buFont typeface="Wingdings" charset="2"/>
              <a:buChar char=""/>
              <a:tabLst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381600">
              <a:lnSpc>
                <a:spcPct val="100000"/>
              </a:lnSpc>
              <a:spcBef>
                <a:spcPts val="751"/>
              </a:spcBef>
              <a:buClr>
                <a:srgbClr val="66047a"/>
              </a:buClr>
              <a:buSzPct val="85000"/>
              <a:buFont typeface="Wingdings" charset="2"/>
              <a:buChar char=""/>
              <a:tabLst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263582"/>
                </a:solidFill>
                <a:latin typeface="Verdana"/>
              </a:rPr>
              <a:t>Cesiones parciales (derechos de beneficiario, derecho de adjudicación, u otras) hacen que el Fideicomiso sea tratado como “socieda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1440" indent="-207720">
              <a:lnSpc>
                <a:spcPct val="100000"/>
              </a:lnSpc>
              <a:spcBef>
                <a:spcPts val="675"/>
              </a:spcBef>
              <a:buClr>
                <a:srgbClr val="6600b2"/>
              </a:buClr>
              <a:buFont typeface="Verdana"/>
              <a:buChar char="–"/>
              <a:tabLst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1800" spc="-1" strike="noStrike">
                <a:solidFill>
                  <a:srgbClr val="263582"/>
                </a:solidFill>
                <a:latin typeface="Verdana"/>
              </a:rPr>
              <a:t>punto 6. inc. a) art. 69 LI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3816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1440" indent="-20772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1100" spc="-1" strike="noStrike">
                <a:solidFill>
                  <a:srgbClr val="263582"/>
                </a:solidFill>
                <a:latin typeface="Verdana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974080" y="836640"/>
            <a:ext cx="169920" cy="5472000"/>
          </a:xfrm>
          <a:prstGeom prst="rect">
            <a:avLst/>
          </a:prstGeom>
          <a:solidFill>
            <a:srgbClr val="a72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0" y="836640"/>
            <a:ext cx="91440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0" y="6308640"/>
            <a:ext cx="91440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8760" y="169920"/>
            <a:ext cx="473292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Fideicomisos: ¿dónde esta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760" y="1052640"/>
            <a:ext cx="8626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19040" indent="-41904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a72501"/>
                </a:solidFill>
                <a:latin typeface="Verdana"/>
              </a:rPr>
              <a:t>Opciones Fisc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263582"/>
                </a:solidFill>
                <a:latin typeface="Verdana"/>
              </a:rPr>
              <a:t>Devengado exigible – Inc. a) art. 18 L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263582"/>
                </a:solidFill>
                <a:latin typeface="Verdana"/>
              </a:rPr>
              <a:t>Venta y Reemplazo – Art. 67 L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263582"/>
                </a:solidFill>
                <a:latin typeface="Verdana"/>
              </a:rPr>
              <a:t>Previstas para la 3ra. Catego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263582"/>
                </a:solidFill>
                <a:latin typeface="Verdana"/>
              </a:rPr>
              <a:t>Resultan aplicables a los Fideicomisos, verificadas condiciones de cada c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spcBef>
                <a:spcPts val="4374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419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0720" indent="-228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1100" spc="-1" strike="noStrike">
                <a:solidFill>
                  <a:srgbClr val="263582"/>
                </a:solidFill>
                <a:latin typeface="Verdana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974080" y="836640"/>
            <a:ext cx="169920" cy="5472000"/>
          </a:xfrm>
          <a:prstGeom prst="rect">
            <a:avLst/>
          </a:prstGeom>
          <a:solidFill>
            <a:srgbClr val="a72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0" y="836640"/>
            <a:ext cx="91440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0" y="6308640"/>
            <a:ext cx="91440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8760" y="169920"/>
            <a:ext cx="473292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Fideicomisos: ¿dónde esta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6760" y="1052640"/>
            <a:ext cx="8626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89080" indent="-28908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a72501"/>
                </a:solidFill>
                <a:latin typeface="Verdana"/>
              </a:rPr>
              <a:t>Rescisión de Contrato de Fideicomi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Si la transferencia fiduciaria de bienes no se encuentra condicionada, la misma sería perfec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51880" indent="-289080">
              <a:lnSpc>
                <a:spcPct val="100000"/>
              </a:lnSpc>
              <a:spcBef>
                <a:spcPts val="751"/>
              </a:spcBef>
              <a:buClr>
                <a:srgbClr val="66047a"/>
              </a:buClr>
              <a:buSzPct val="85000"/>
              <a:buFont typeface="Wingdings" charset="2"/>
              <a:buChar char=""/>
              <a:tabLst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Genera los hechos imponibles correspond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51880" indent="-289080">
              <a:lnSpc>
                <a:spcPct val="100000"/>
              </a:lnSpc>
              <a:spcBef>
                <a:spcPts val="751"/>
              </a:spcBef>
              <a:buClr>
                <a:srgbClr val="66047a"/>
              </a:buClr>
              <a:buSzPct val="85000"/>
              <a:buFont typeface="Wingdings" charset="2"/>
              <a:buChar char=""/>
              <a:tabLst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Rescisión genera nuevos hechos imponibles derivados de la transferencia de prop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a72501"/>
                </a:solidFill>
                <a:latin typeface="Verdana"/>
              </a:rPr>
              <a:t>Retrocesiones de Bienes a Fiducian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Si se veri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51880" indent="-289080">
              <a:lnSpc>
                <a:spcPct val="100000"/>
              </a:lnSpc>
              <a:spcBef>
                <a:spcPts val="675"/>
              </a:spcBef>
              <a:buClr>
                <a:srgbClr val="66047a"/>
              </a:buClr>
              <a:buSzPct val="85000"/>
              <a:buFont typeface="Wingdings" charset="2"/>
              <a:buChar char=""/>
              <a:tabLst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1800" spc="-1" strike="noStrike">
                <a:solidFill>
                  <a:srgbClr val="263582"/>
                </a:solidFill>
                <a:latin typeface="Verdana"/>
              </a:rPr>
              <a:t>Afectación de bienes en forma tempor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1880" indent="-289080">
              <a:lnSpc>
                <a:spcPct val="100000"/>
              </a:lnSpc>
              <a:spcBef>
                <a:spcPts val="675"/>
              </a:spcBef>
              <a:buClr>
                <a:srgbClr val="66047a"/>
              </a:buClr>
              <a:buSzPct val="85000"/>
              <a:buFont typeface="Wingdings" charset="2"/>
              <a:buChar char=""/>
              <a:tabLst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1800" spc="-1" strike="noStrike">
                <a:solidFill>
                  <a:srgbClr val="263582"/>
                </a:solidFill>
                <a:latin typeface="Verdana"/>
              </a:rPr>
              <a:t>Inexistencia de efectos de transferencia en terc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1880" indent="-289080">
              <a:lnSpc>
                <a:spcPct val="100000"/>
              </a:lnSpc>
              <a:spcBef>
                <a:spcPts val="675"/>
              </a:spcBef>
              <a:buClr>
                <a:srgbClr val="66047a"/>
              </a:buClr>
              <a:buSzPct val="85000"/>
              <a:buFont typeface="Wingdings" charset="2"/>
              <a:buChar char=""/>
              <a:tabLst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1800" spc="-1" strike="noStrike">
                <a:solidFill>
                  <a:srgbClr val="263582"/>
                </a:solidFill>
                <a:latin typeface="Verdana"/>
              </a:rPr>
              <a:t>Transferencia limitada a adminis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Puede sostenerse falta de onerosidad en trans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51880" indent="-289080">
              <a:lnSpc>
                <a:spcPct val="100000"/>
              </a:lnSpc>
              <a:spcBef>
                <a:spcPts val="751"/>
              </a:spcBef>
              <a:buClr>
                <a:srgbClr val="66047a"/>
              </a:buClr>
              <a:buSzPct val="85000"/>
              <a:buFont typeface="Wingdings" charset="2"/>
              <a:buChar char=""/>
              <a:tabLst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4374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551880" indent="-289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83280" indent="-15768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1100" spc="-1" strike="noStrike">
                <a:solidFill>
                  <a:srgbClr val="263582"/>
                </a:solidFill>
                <a:latin typeface="Verdana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974080" y="836640"/>
            <a:ext cx="169920" cy="5472000"/>
          </a:xfrm>
          <a:prstGeom prst="rect">
            <a:avLst/>
          </a:prstGeom>
          <a:solidFill>
            <a:srgbClr val="a72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0" y="836640"/>
            <a:ext cx="91440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0" y="6308640"/>
            <a:ext cx="91440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8760" y="169920"/>
            <a:ext cx="473292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Fideicomisos: ¿dónde esta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6760" y="1052640"/>
            <a:ext cx="8626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14720" indent="-41472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a72501"/>
                </a:solidFill>
                <a:latin typeface="Verdana"/>
              </a:rPr>
              <a:t>IVA - Señas ó Anticipos que Congelan 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4720" indent="-41472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263582"/>
                </a:solidFill>
                <a:latin typeface="Verdana"/>
              </a:rPr>
              <a:t>¿Asimilación de “aportes” fiduciarios a “señas”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415080">
              <a:lnSpc>
                <a:spcPct val="100000"/>
              </a:lnSpc>
              <a:spcBef>
                <a:spcPts val="751"/>
              </a:spcBef>
              <a:buClr>
                <a:srgbClr val="66047a"/>
              </a:buClr>
              <a:buSzPct val="85000"/>
              <a:buFont typeface="Wingdings" charset="2"/>
              <a:buChar char=""/>
              <a:tabLst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263582"/>
                </a:solidFill>
                <a:latin typeface="Verdana"/>
              </a:rPr>
              <a:t>En “fideicomisos al costo”: N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415080">
              <a:lnSpc>
                <a:spcPct val="100000"/>
              </a:lnSpc>
              <a:spcBef>
                <a:spcPts val="751"/>
              </a:spcBef>
              <a:buClr>
                <a:srgbClr val="66047a"/>
              </a:buClr>
              <a:buSzPct val="85000"/>
              <a:buFont typeface="Wingdings" charset="2"/>
              <a:buChar char=""/>
              <a:tabLst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263582"/>
                </a:solidFill>
                <a:latin typeface="Verdana"/>
              </a:rPr>
              <a:t>Aportes destinados a posibilitar consecución de obra y no congelar 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415080">
              <a:lnSpc>
                <a:spcPct val="100000"/>
              </a:lnSpc>
              <a:spcBef>
                <a:spcPts val="751"/>
              </a:spcBef>
              <a:buClr>
                <a:srgbClr val="66047a"/>
              </a:buClr>
              <a:buSzPct val="85000"/>
              <a:buFont typeface="Wingdings" charset="2"/>
              <a:buChar char=""/>
              <a:tabLst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263582"/>
                </a:solidFill>
                <a:latin typeface="Verdana"/>
              </a:rPr>
              <a:t>Relación jurídica de naturaleza diferenc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415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415080">
              <a:lnSpc>
                <a:spcPct val="100000"/>
              </a:lnSpc>
              <a:spcBef>
                <a:spcPts val="751"/>
              </a:spcBef>
              <a:buClr>
                <a:srgbClr val="66047a"/>
              </a:buClr>
              <a:buSzPct val="85000"/>
              <a:buFont typeface="Wingdings" charset="2"/>
              <a:buChar char=""/>
              <a:tabLst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4720" indent="-414720">
              <a:lnSpc>
                <a:spcPct val="100000"/>
              </a:lnSpc>
              <a:spcBef>
                <a:spcPts val="4374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415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0640" indent="-22608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1100" spc="-1" strike="noStrike">
                <a:solidFill>
                  <a:srgbClr val="263582"/>
                </a:solidFill>
                <a:latin typeface="Verdana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974080" y="836640"/>
            <a:ext cx="169920" cy="5472000"/>
          </a:xfrm>
          <a:prstGeom prst="rect">
            <a:avLst/>
          </a:prstGeom>
          <a:solidFill>
            <a:srgbClr val="a72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0" y="836640"/>
            <a:ext cx="91440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0" y="6308640"/>
            <a:ext cx="91440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8760" y="169920"/>
            <a:ext cx="473292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Fideicomisos: ¿dónde esta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760" y="1052640"/>
            <a:ext cx="8626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85200" indent="-38520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a72501"/>
                </a:solidFill>
                <a:latin typeface="Verdana"/>
              </a:rPr>
              <a:t>IBP – Responsable Sustit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5200" indent="-38520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263582"/>
                </a:solidFill>
                <a:latin typeface="Verdana"/>
              </a:rPr>
              <a:t>¿Obligación exigib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5200" indent="-38520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263582"/>
                </a:solidFill>
                <a:latin typeface="Verdana"/>
              </a:rPr>
              <a:t>Forma de cumplimiento de la obligación legal no reglament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5200" indent="-38520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263582"/>
                </a:solidFill>
                <a:latin typeface="Verdana"/>
              </a:rPr>
              <a:t>Diversidad de tratamiento en 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5200" indent="-38520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263582"/>
                </a:solidFill>
                <a:latin typeface="Verdana"/>
              </a:rPr>
              <a:t>Se espera regla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200" indent="-385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200" indent="-385560">
              <a:lnSpc>
                <a:spcPct val="100000"/>
              </a:lnSpc>
              <a:spcBef>
                <a:spcPts val="751"/>
              </a:spcBef>
              <a:buClr>
                <a:srgbClr val="66047a"/>
              </a:buClr>
              <a:buSzPct val="85000"/>
              <a:buFont typeface="Wingdings" charset="2"/>
              <a:buChar char=""/>
              <a:tabLst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5200" indent="-385200">
              <a:lnSpc>
                <a:spcPct val="100000"/>
              </a:lnSpc>
              <a:spcBef>
                <a:spcPts val="4374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200" indent="-38556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1160" indent="-21024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1100" spc="-1" strike="noStrike">
                <a:solidFill>
                  <a:srgbClr val="263582"/>
                </a:solidFill>
                <a:latin typeface="Verdana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974080" y="836640"/>
            <a:ext cx="169920" cy="5472000"/>
          </a:xfrm>
          <a:prstGeom prst="rect">
            <a:avLst/>
          </a:prstGeom>
          <a:solidFill>
            <a:srgbClr val="a72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0" y="836640"/>
            <a:ext cx="91440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0" y="6308640"/>
            <a:ext cx="91440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8760" y="169920"/>
            <a:ext cx="473292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Fideicomisos: ¿dónde esta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6760" y="1052640"/>
            <a:ext cx="8626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85200" indent="-38520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a72501"/>
                </a:solidFill>
                <a:latin typeface="Verdana"/>
              </a:rPr>
              <a:t>IG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5200" indent="-38520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Situación de “fideicomisos al cost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5200" indent="-38520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Situación de “fideicomisos de garantí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5200" indent="-38520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Caso “Hermitag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5200" indent="-38520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Necesidad de adecuación leg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200" indent="-385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200" indent="-385560">
              <a:lnSpc>
                <a:spcPct val="100000"/>
              </a:lnSpc>
              <a:spcBef>
                <a:spcPts val="751"/>
              </a:spcBef>
              <a:buClr>
                <a:srgbClr val="66047a"/>
              </a:buClr>
              <a:buSzPct val="85000"/>
              <a:buFont typeface="Wingdings" charset="2"/>
              <a:buChar char=""/>
              <a:tabLst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5200" indent="-385200">
              <a:lnSpc>
                <a:spcPct val="100000"/>
              </a:lnSpc>
              <a:spcBef>
                <a:spcPts val="4374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200" indent="-38556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1160" indent="-21024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1100" spc="-1" strike="noStrike">
                <a:solidFill>
                  <a:srgbClr val="263582"/>
                </a:solidFill>
                <a:latin typeface="Verdana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964720" y="2349360"/>
            <a:ext cx="179280" cy="1806840"/>
          </a:xfrm>
          <a:prstGeom prst="rect">
            <a:avLst/>
          </a:prstGeom>
          <a:solidFill>
            <a:srgbClr val="a72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0" y="2355840"/>
            <a:ext cx="91440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0" y="4156200"/>
            <a:ext cx="91440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2708280"/>
            <a:ext cx="7993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72501"/>
                </a:solidFill>
                <a:latin typeface="Verdana"/>
              </a:rPr>
              <a:t>Fideicomisos: ¿de dónde veni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974080" y="836640"/>
            <a:ext cx="169920" cy="5472000"/>
          </a:xfrm>
          <a:prstGeom prst="rect">
            <a:avLst/>
          </a:prstGeom>
          <a:solidFill>
            <a:srgbClr val="a72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0" y="836640"/>
            <a:ext cx="91440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0" y="6308640"/>
            <a:ext cx="91440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8760" y="169920"/>
            <a:ext cx="473292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Fideicomisos: ¿dónde esta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6760" y="1052640"/>
            <a:ext cx="8626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35160" indent="-33516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a72501"/>
                </a:solidFill>
                <a:latin typeface="Verdana"/>
              </a:rPr>
              <a:t>Resultados Atribuibles a Fideicomis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160" indent="-33516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¿Se asignan al Fideicomisari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160" indent="-33516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¿Tributa el Fiduciario por cuenta del Fideicomisari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160" indent="-33516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¿Cuándo se asignan al Fideicomisario ó cuándo se tribut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0080" indent="-335520">
              <a:lnSpc>
                <a:spcPct val="100000"/>
              </a:lnSpc>
              <a:spcBef>
                <a:spcPts val="751"/>
              </a:spcBef>
              <a:buClr>
                <a:srgbClr val="66047a"/>
              </a:buClr>
              <a:buSzPct val="85000"/>
              <a:buFont typeface="Wingdings" charset="2"/>
              <a:buChar char=""/>
              <a:tabLst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Con el devengamiento, año a a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0080" indent="-335520">
              <a:lnSpc>
                <a:spcPct val="100000"/>
              </a:lnSpc>
              <a:spcBef>
                <a:spcPts val="751"/>
              </a:spcBef>
              <a:buClr>
                <a:srgbClr val="66047a"/>
              </a:buClr>
              <a:buSzPct val="85000"/>
              <a:buFont typeface="Wingdings" charset="2"/>
              <a:buChar char=""/>
              <a:tabLst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Al finalizar la operación fiduci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160" indent="-33516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Situación abierta a deb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0080" indent="-335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0080" indent="-335520">
              <a:lnSpc>
                <a:spcPct val="100000"/>
              </a:lnSpc>
              <a:spcBef>
                <a:spcPts val="751"/>
              </a:spcBef>
              <a:buClr>
                <a:srgbClr val="66047a"/>
              </a:buClr>
              <a:buSzPct val="85000"/>
              <a:buFont typeface="Wingdings" charset="2"/>
              <a:buChar char=""/>
              <a:tabLst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160" indent="-335160">
              <a:lnSpc>
                <a:spcPct val="100000"/>
              </a:lnSpc>
              <a:spcBef>
                <a:spcPts val="4374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640080" indent="-33552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792360" indent="-18288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1100" spc="-1" strike="noStrike">
                <a:solidFill>
                  <a:srgbClr val="263582"/>
                </a:solidFill>
                <a:latin typeface="Verdana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974080" y="836640"/>
            <a:ext cx="169920" cy="5472000"/>
          </a:xfrm>
          <a:prstGeom prst="rect">
            <a:avLst/>
          </a:prstGeom>
          <a:solidFill>
            <a:srgbClr val="a72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0" y="836640"/>
            <a:ext cx="91440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0" y="6308640"/>
            <a:ext cx="91440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8760" y="169920"/>
            <a:ext cx="473292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Fideicomisos: ¿dónde esta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6760" y="1052640"/>
            <a:ext cx="8626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93040" indent="-29304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a72501"/>
                </a:solidFill>
                <a:latin typeface="Verdana"/>
              </a:rPr>
              <a:t>Fideicomisos Públic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3040" indent="-29304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Utilizados con mayor frecu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3040" indent="-29304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Creados para la consecución de un bien público para asegurar el cumplimiento de una finalidad de interés púb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3040" indent="-29304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Constituido con bienes del Est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3040" indent="-29304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Beneficiado con normas exentivas de diverso alc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93400">
              <a:lnSpc>
                <a:spcPct val="100000"/>
              </a:lnSpc>
              <a:spcBef>
                <a:spcPts val="751"/>
              </a:spcBef>
              <a:buClr>
                <a:srgbClr val="66047a"/>
              </a:buClr>
              <a:buSzPct val="85000"/>
              <a:buFont typeface="Wingdings" charset="2"/>
              <a:buChar char=""/>
              <a:tabLst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Se busca la neutralidad fiscal, evitando incidir los flujos ó los bienes que integran el patrimonio fiduci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3040" indent="-29304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934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93400">
              <a:lnSpc>
                <a:spcPct val="100000"/>
              </a:lnSpc>
              <a:spcBef>
                <a:spcPts val="751"/>
              </a:spcBef>
              <a:buClr>
                <a:srgbClr val="66047a"/>
              </a:buClr>
              <a:buSzPct val="85000"/>
              <a:buFont typeface="Wingdings" charset="2"/>
              <a:buChar char=""/>
              <a:tabLst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3040" indent="-293040">
              <a:lnSpc>
                <a:spcPct val="100000"/>
              </a:lnSpc>
              <a:spcBef>
                <a:spcPts val="4374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93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93360" indent="-15984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1100" spc="-1" strike="noStrike">
                <a:solidFill>
                  <a:srgbClr val="263582"/>
                </a:solidFill>
                <a:latin typeface="Verdana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974080" y="836640"/>
            <a:ext cx="169920" cy="5472000"/>
          </a:xfrm>
          <a:prstGeom prst="rect">
            <a:avLst/>
          </a:prstGeom>
          <a:solidFill>
            <a:srgbClr val="a72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0" y="836640"/>
            <a:ext cx="91440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0" y="6308640"/>
            <a:ext cx="91440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760" y="169920"/>
            <a:ext cx="473292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Fideicomisos: ¿dónde esta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6760" y="1052640"/>
            <a:ext cx="8626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84760" indent="-28476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a72501"/>
                </a:solidFill>
                <a:latin typeface="Verdana"/>
              </a:rPr>
              <a:t>Regímenes de Inform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760" indent="-28476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Mayor exigenc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3960" indent="-285120">
              <a:lnSpc>
                <a:spcPct val="100000"/>
              </a:lnSpc>
              <a:spcBef>
                <a:spcPts val="751"/>
              </a:spcBef>
              <a:buClr>
                <a:srgbClr val="66047a"/>
              </a:buClr>
              <a:buSzPct val="85000"/>
              <a:buFont typeface="Wingdings" charset="2"/>
              <a:buChar char=""/>
              <a:tabLst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" sz="2000" spc="-1" strike="noStrike">
                <a:solidFill>
                  <a:srgbClr val="263582"/>
                </a:solidFill>
                <a:latin typeface="Verdana"/>
              </a:rPr>
              <a:t>Fideicomisos Financieros y No Financieros del país y del ext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3960" indent="-285120">
              <a:lnSpc>
                <a:spcPct val="100000"/>
              </a:lnSpc>
              <a:spcBef>
                <a:spcPts val="751"/>
              </a:spcBef>
              <a:buClr>
                <a:srgbClr val="66047a"/>
              </a:buClr>
              <a:buSzPct val="85000"/>
              <a:buFont typeface="Wingdings" charset="2"/>
              <a:buChar char=""/>
              <a:tabLst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" sz="2000" spc="-1" strike="noStrike">
                <a:solidFill>
                  <a:srgbClr val="263582"/>
                </a:solidFill>
                <a:latin typeface="Verdana"/>
              </a:rPr>
              <a:t>R.G. 3312 AFIP-D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760" indent="-28476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" sz="2000" spc="-1" strike="noStrike">
                <a:solidFill>
                  <a:srgbClr val="263582"/>
                </a:solidFill>
                <a:latin typeface="Verdana"/>
              </a:rPr>
              <a:t>Información en “tiempo rea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760" indent="-28476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" sz="2000" spc="-1" strike="noStrike">
                <a:solidFill>
                  <a:srgbClr val="263582"/>
                </a:solidFill>
                <a:latin typeface="Verdana"/>
              </a:rPr>
              <a:t>Afectación de carga administrativa en forma significativ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760" indent="-28476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" sz="2000" spc="-1" strike="noStrike">
                <a:solidFill>
                  <a:srgbClr val="263582"/>
                </a:solidFill>
                <a:latin typeface="Verdana"/>
              </a:rPr>
              <a:t>Creación de nuevo tipo sancionato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3960" indent="-285120">
              <a:lnSpc>
                <a:spcPct val="100000"/>
              </a:lnSpc>
              <a:spcBef>
                <a:spcPts val="751"/>
              </a:spcBef>
              <a:buClr>
                <a:srgbClr val="66047a"/>
              </a:buClr>
              <a:buSzPct val="85000"/>
              <a:buFont typeface="Wingdings" charset="2"/>
              <a:buChar char=""/>
              <a:tabLst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760" indent="-28476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3960" indent="-285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3960" indent="-285120">
              <a:lnSpc>
                <a:spcPct val="100000"/>
              </a:lnSpc>
              <a:spcBef>
                <a:spcPts val="751"/>
              </a:spcBef>
              <a:buClr>
                <a:srgbClr val="66047a"/>
              </a:buClr>
              <a:buSzPct val="85000"/>
              <a:buFont typeface="Wingdings" charset="2"/>
              <a:buChar char=""/>
              <a:tabLst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760" indent="-284760">
              <a:lnSpc>
                <a:spcPct val="100000"/>
              </a:lnSpc>
              <a:spcBef>
                <a:spcPts val="4374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543960" indent="-28512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73560" indent="-15516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1100" spc="-1" strike="noStrike">
                <a:solidFill>
                  <a:srgbClr val="263582"/>
                </a:solidFill>
                <a:latin typeface="Verdana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964720" y="2349360"/>
            <a:ext cx="179280" cy="1806840"/>
          </a:xfrm>
          <a:prstGeom prst="rect">
            <a:avLst/>
          </a:prstGeom>
          <a:solidFill>
            <a:srgbClr val="a72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0" y="2355840"/>
            <a:ext cx="91440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0" y="4156200"/>
            <a:ext cx="91440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9280" y="2708280"/>
            <a:ext cx="7993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72501"/>
                </a:solidFill>
                <a:latin typeface="Verdana"/>
              </a:rPr>
              <a:t>Comentarios F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964720" y="2349360"/>
            <a:ext cx="179280" cy="1806840"/>
          </a:xfrm>
          <a:prstGeom prst="rect">
            <a:avLst/>
          </a:prstGeom>
          <a:solidFill>
            <a:srgbClr val="a72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0" y="2355840"/>
            <a:ext cx="91440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0" y="4156200"/>
            <a:ext cx="91440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227640" y="5013360"/>
            <a:ext cx="2324160" cy="9334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619280" y="2637000"/>
            <a:ext cx="6121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Dr. Pablo A. Gutiérrez </a:t>
            </a:r>
            <a:br>
              <a:rPr sz="2000"/>
            </a:br>
            <a:r>
              <a:rPr b="0" lang="es-ES_tradnl" sz="1800" spc="-1" strike="noStrike">
                <a:solidFill>
                  <a:srgbClr val="263582"/>
                </a:solidFill>
                <a:latin typeface="Verdana"/>
              </a:rPr>
              <a:t>VicePresid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974080" y="836640"/>
            <a:ext cx="169920" cy="5472000"/>
          </a:xfrm>
          <a:prstGeom prst="rect">
            <a:avLst/>
          </a:prstGeom>
          <a:solidFill>
            <a:srgbClr val="a72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0" y="836640"/>
            <a:ext cx="91440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0" y="6308640"/>
            <a:ext cx="91440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52600" y="169920"/>
            <a:ext cx="518400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Fideicomisos: ¿de dónde veni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760" y="1052640"/>
            <a:ext cx="855324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Primer enfoque vinculado a la “neutralidad de los acto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Las operaciones fiduciarias no son ni Onerosas ni Gratui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“</a:t>
            </a: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Título de Confianza” / Neutralidad fis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Circulación de bienes no producen efectos fisca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spcBef>
                <a:spcPts val="751"/>
              </a:spcBef>
              <a:buClr>
                <a:srgbClr val="66047a"/>
              </a:buClr>
              <a:buSzPct val="85000"/>
              <a:buFont typeface="Wingdings" charset="2"/>
              <a:buChar char="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Transferencia de bienes hacia el fideicomi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spcBef>
                <a:spcPts val="751"/>
              </a:spcBef>
              <a:buClr>
                <a:srgbClr val="66047a"/>
              </a:buClr>
              <a:buSzPct val="85000"/>
              <a:buFont typeface="Wingdings" charset="2"/>
              <a:buChar char="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Transferencias de bienes desde el fideicomis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90440">
              <a:lnSpc>
                <a:spcPct val="100000"/>
              </a:lnSpc>
              <a:spcBef>
                <a:spcPts val="751"/>
              </a:spcBef>
              <a:buClr>
                <a:srgbClr val="6600b2"/>
              </a:buClr>
              <a:buFont typeface="Verdana"/>
              <a:buChar char="–"/>
              <a:tabLst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A Fiducian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90440">
              <a:lnSpc>
                <a:spcPct val="100000"/>
              </a:lnSpc>
              <a:spcBef>
                <a:spcPts val="751"/>
              </a:spcBef>
              <a:buClr>
                <a:srgbClr val="6600b2"/>
              </a:buClr>
              <a:buFont typeface="Verdana"/>
              <a:buChar char="–"/>
              <a:tabLst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A Beneficiari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a72501"/>
                </a:solidFill>
                <a:latin typeface="Verdana"/>
              </a:rPr>
              <a:t>ENFOQUE SUPERADO</a:t>
            </a: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a72501"/>
                </a:solidFill>
                <a:latin typeface="Verdana"/>
              </a:rPr>
              <a:t>POR CRITERIO FISCAL Y EVOLUCION DE LA DOCTR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spcBef>
                <a:spcPts val="751"/>
              </a:spcBef>
              <a:buClr>
                <a:srgbClr val="66047a"/>
              </a:buClr>
              <a:buSzPct val="85000"/>
              <a:buFont typeface="Verdana"/>
              <a:buChar char="-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974080" y="836640"/>
            <a:ext cx="169920" cy="5472000"/>
          </a:xfrm>
          <a:prstGeom prst="rect">
            <a:avLst/>
          </a:prstGeom>
          <a:solidFill>
            <a:srgbClr val="a72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0" y="836640"/>
            <a:ext cx="91440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0" y="6308640"/>
            <a:ext cx="91440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2600" y="169920"/>
            <a:ext cx="518400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Fideicomisos: ¿de dónde veni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6760" y="1052640"/>
            <a:ext cx="848196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a72501"/>
                </a:solidFill>
                <a:latin typeface="Verdana"/>
              </a:rPr>
              <a:t>Ho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Prevalece el concepto de onerosidad sobre gratuidad y neutr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Onerosidad no es un principio absoluto que se aplica a todas las operaciones fiducia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spcBef>
                <a:spcPts val="751"/>
              </a:spcBef>
              <a:buClr>
                <a:srgbClr val="66047a"/>
              </a:buClr>
              <a:buSzPct val="85000"/>
              <a:buFont typeface="Wingdings" charset="2"/>
              <a:buChar char="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spcBef>
                <a:spcPts val="751"/>
              </a:spcBef>
              <a:buClr>
                <a:srgbClr val="66047a"/>
              </a:buClr>
              <a:buSzPct val="85000"/>
              <a:buFont typeface="Wingdings" charset="2"/>
              <a:buChar char="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Impuesto de sel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spcBef>
                <a:spcPts val="751"/>
              </a:spcBef>
              <a:buClr>
                <a:srgbClr val="66047a"/>
              </a:buClr>
              <a:buSzPct val="85000"/>
              <a:buFont typeface="Wingdings" charset="2"/>
              <a:buChar char="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Fideicomisos de garant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spcBef>
                <a:spcPts val="751"/>
              </a:spcBef>
              <a:buClr>
                <a:srgbClr val="66047a"/>
              </a:buClr>
              <a:buSzPct val="85000"/>
              <a:buFont typeface="Wingdings" charset="2"/>
              <a:buChar char="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Cesiones temporales de la propied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Necesidad de entender realidad subyacente del contr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spcBef>
                <a:spcPts val="751"/>
              </a:spcBef>
              <a:buClr>
                <a:srgbClr val="66047a"/>
              </a:buClr>
              <a:buSzPct val="85000"/>
              <a:buFont typeface="Verdana"/>
              <a:buChar char="-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964720" y="2349360"/>
            <a:ext cx="179280" cy="1806840"/>
          </a:xfrm>
          <a:prstGeom prst="rect">
            <a:avLst/>
          </a:prstGeom>
          <a:solidFill>
            <a:srgbClr val="a72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0" y="2355840"/>
            <a:ext cx="91440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0" y="4156200"/>
            <a:ext cx="91440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2708280"/>
            <a:ext cx="7993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72501"/>
                </a:solidFill>
                <a:latin typeface="Verdana"/>
              </a:rPr>
              <a:t>Fideicomisos: ¿dónde esta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974080" y="836640"/>
            <a:ext cx="169920" cy="5472000"/>
          </a:xfrm>
          <a:prstGeom prst="rect">
            <a:avLst/>
          </a:prstGeom>
          <a:solidFill>
            <a:srgbClr val="a72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0" y="836640"/>
            <a:ext cx="91440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0" y="6308640"/>
            <a:ext cx="91440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8760" y="169920"/>
            <a:ext cx="473292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Fideicomisos: ¿dónde esta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760" y="1052640"/>
            <a:ext cx="848196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a72501"/>
                </a:solidFill>
                <a:latin typeface="Verdana"/>
              </a:rPr>
              <a:t>Oneros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La actividad del Fiduciario queda definida por las disposiciones del contrato y/ó sus acuerdos complementari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La operación Fiduciaria, en la medida en que reconoce un derecho, una suma de dinero u otros bienes al Fiduciante, se entiende onero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spcBef>
                <a:spcPts val="751"/>
              </a:spcBef>
              <a:buClr>
                <a:srgbClr val="66047a"/>
              </a:buClr>
              <a:buSzPct val="85000"/>
              <a:buFont typeface="Wingdings" charset="2"/>
              <a:buChar char="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Dictamen 55/2005 (D.A.T.) Inicia nuevo camino del criterio fis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spcBef>
                <a:spcPts val="751"/>
              </a:spcBef>
              <a:buClr>
                <a:srgbClr val="66047a"/>
              </a:buClr>
              <a:buSzPct val="85000"/>
              <a:buFont typeface="Wingdings" charset="2"/>
              <a:buChar char="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Contraposición con dictámenes 103/2001 (D.A.T.), 17/2002 (D.A.T.), 34/96 (D.A.T.), entre otros, aunque contenían reserva de “realidad económic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spcBef>
                <a:spcPts val="751"/>
              </a:spcBef>
              <a:buClr>
                <a:srgbClr val="66047a"/>
              </a:buClr>
              <a:buSzPct val="85000"/>
              <a:buFont typeface="Verdana"/>
              <a:buChar char="-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974080" y="836640"/>
            <a:ext cx="169920" cy="5472000"/>
          </a:xfrm>
          <a:prstGeom prst="rect">
            <a:avLst/>
          </a:prstGeom>
          <a:solidFill>
            <a:srgbClr val="a72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0" y="836640"/>
            <a:ext cx="91440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0" y="6308640"/>
            <a:ext cx="91440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8760" y="169920"/>
            <a:ext cx="473292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Fideicomisos: ¿dónde esta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760" y="1052640"/>
            <a:ext cx="848196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a72501"/>
                </a:solidFill>
                <a:latin typeface="Verdana"/>
              </a:rPr>
              <a:t>Oneros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Art. 1139 del Código Civil establece que los contratos son a título oneroso "... cuando las ventajas que procuran a una u otra de las partes no les es concedida sino por una prestación que ella le ha hecho, o que se obliga a hacerle...", en tanto que son a título gratuito "... cuando aseguran a una u otra de las partes alguna ventaja, independiente de toda prestación por su parte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Carácter de “Empresa” (perspectiva de ánimo de lucro) del Fideicomiso es presumido de forma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spcBef>
                <a:spcPts val="751"/>
              </a:spcBef>
              <a:buClr>
                <a:srgbClr val="66047a"/>
              </a:buClr>
              <a:buSzPct val="85000"/>
              <a:buFont typeface="Wingdings" charset="2"/>
              <a:buChar char="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“</a:t>
            </a:r>
            <a:r>
              <a:rPr b="1" lang="es-ES_tradnl" sz="2000" spc="-1" strike="noStrike">
                <a:solidFill>
                  <a:srgbClr val="263582"/>
                </a:solidFill>
                <a:latin typeface="Verdana"/>
              </a:rPr>
              <a:t>No Empresa” es excep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974080" y="836640"/>
            <a:ext cx="169920" cy="5472000"/>
          </a:xfrm>
          <a:prstGeom prst="rect">
            <a:avLst/>
          </a:prstGeom>
          <a:solidFill>
            <a:srgbClr val="a72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0" y="836640"/>
            <a:ext cx="91440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0" y="6308640"/>
            <a:ext cx="91440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8760" y="169920"/>
            <a:ext cx="473292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Fideicomisos: ¿dónde esta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6760" y="1052640"/>
            <a:ext cx="848196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19040" indent="-41904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a72501"/>
                </a:solidFill>
                <a:latin typeface="Verdana"/>
              </a:rPr>
              <a:t>Valu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a72501"/>
                </a:solidFill>
                <a:latin typeface="Verdana"/>
              </a:rPr>
              <a:t>Cesión fiduciaria</a:t>
            </a:r>
            <a:r>
              <a:rPr b="1" lang="en-US" sz="2000" spc="-1" strike="noStrike">
                <a:solidFill>
                  <a:srgbClr val="263582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263582"/>
                </a:solidFill>
                <a:latin typeface="Verdana"/>
              </a:rPr>
              <a:t>Ante la ausencia de precio,  verificada la “enajenació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263582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a72501"/>
                </a:solidFill>
                <a:latin typeface="Verdana"/>
              </a:rPr>
              <a:t>-</a:t>
            </a:r>
            <a:r>
              <a:rPr b="1" lang="en-US" sz="2000" spc="-1" strike="noStrike">
                <a:solidFill>
                  <a:srgbClr val="263582"/>
                </a:solidFill>
                <a:latin typeface="Verdana"/>
              </a:rPr>
              <a:t> Resulta aplicable el art. 3 LIG y el art. 28 DR L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263582"/>
                </a:solidFill>
                <a:latin typeface="Verdana"/>
              </a:rPr>
              <a:t>  </a:t>
            </a:r>
            <a:r>
              <a:rPr b="1" lang="en-US" sz="2000" spc="-1" strike="noStrike">
                <a:solidFill>
                  <a:srgbClr val="a72501"/>
                </a:solidFill>
                <a:latin typeface="Verdana"/>
              </a:rPr>
              <a:t>-</a:t>
            </a:r>
            <a:r>
              <a:rPr b="1" lang="en-US" sz="2000" spc="-1" strike="noStrike">
                <a:solidFill>
                  <a:srgbClr val="263582"/>
                </a:solidFill>
                <a:latin typeface="Verdana"/>
              </a:rPr>
              <a:t> Valor en plaza ó valor de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263582"/>
                </a:solidFill>
                <a:latin typeface="Verdana"/>
              </a:rPr>
              <a:t>  </a:t>
            </a:r>
            <a:r>
              <a:rPr b="1" lang="en-US" sz="2000" spc="-1" strike="noStrike">
                <a:solidFill>
                  <a:srgbClr val="a72501"/>
                </a:solidFill>
                <a:latin typeface="Verdana"/>
              </a:rPr>
              <a:t>-</a:t>
            </a:r>
            <a:r>
              <a:rPr b="1" lang="en-US" sz="2000" spc="-1" strike="noStrike">
                <a:solidFill>
                  <a:srgbClr val="263582"/>
                </a:solidFill>
                <a:latin typeface="Verdana"/>
              </a:rPr>
              <a:t> Aplicable también al ITI, de correspo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263582"/>
                </a:solidFill>
                <a:latin typeface="Verdana"/>
              </a:rPr>
              <a:t>El valor de transferencia constituye el “costo básico” del patrimonio fiduciario a partir del cual se establecerán los resultados de la administración fiduci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974080" y="836640"/>
            <a:ext cx="169920" cy="5472000"/>
          </a:xfrm>
          <a:prstGeom prst="rect">
            <a:avLst/>
          </a:prstGeom>
          <a:solidFill>
            <a:srgbClr val="a72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0" y="836640"/>
            <a:ext cx="91440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0" y="6308640"/>
            <a:ext cx="91440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8760" y="169920"/>
            <a:ext cx="473292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Fideicomisos: ¿dónde esta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6760" y="1052640"/>
            <a:ext cx="848196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364320" indent="-36432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a72501"/>
                </a:solidFill>
                <a:latin typeface="Verdana"/>
              </a:rPr>
              <a:t>Valu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4320" indent="-36432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a72501"/>
                </a:solidFill>
                <a:latin typeface="Verdana"/>
              </a:rPr>
              <a:t>Cesión de bienes a favor de benefici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4320" indent="-364320">
              <a:lnSpc>
                <a:spcPct val="100000"/>
              </a:lnSpc>
              <a:spcBef>
                <a:spcPts val="2500"/>
              </a:spcBef>
              <a:buClr>
                <a:srgbClr val="66047a"/>
              </a:buClr>
              <a:buSzPct val="45000"/>
              <a:buFont typeface="Wingdings" charset="2"/>
              <a:buChar char=""/>
              <a:tabLst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263582"/>
                </a:solidFill>
                <a:latin typeface="Verdana"/>
              </a:rPr>
              <a:t>Criterio fiscal: incidido por la naturaleza de los apor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4320" indent="-36432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a72501"/>
                </a:solidFill>
                <a:latin typeface="Verdana"/>
              </a:rPr>
              <a:t>  </a:t>
            </a:r>
            <a:r>
              <a:rPr b="1" lang="en-US" sz="2000" spc="-1" strike="noStrike">
                <a:solidFill>
                  <a:srgbClr val="a72501"/>
                </a:solidFill>
                <a:latin typeface="Verdana"/>
              </a:rPr>
              <a:t>-</a:t>
            </a:r>
            <a:r>
              <a:rPr b="1" lang="en-US" sz="2000" spc="-1" strike="noStrike">
                <a:solidFill>
                  <a:srgbClr val="263582"/>
                </a:solidFill>
                <a:latin typeface="Verdana"/>
              </a:rPr>
              <a:t> Si hubo aportes dinerarios, la sumatoria de estos representan la valuación a asig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4320" indent="-36432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263582"/>
                </a:solidFill>
                <a:latin typeface="Verdana"/>
              </a:rPr>
              <a:t>  </a:t>
            </a:r>
            <a:r>
              <a:rPr b="1" lang="en-US" sz="2000" spc="-1" strike="noStrike">
                <a:solidFill>
                  <a:srgbClr val="a72501"/>
                </a:solidFill>
                <a:latin typeface="Verdana"/>
              </a:rPr>
              <a:t>-</a:t>
            </a:r>
            <a:r>
              <a:rPr b="1" lang="en-US" sz="2000" spc="-1" strike="noStrike">
                <a:solidFill>
                  <a:srgbClr val="263582"/>
                </a:solidFill>
                <a:latin typeface="Verdana"/>
              </a:rPr>
              <a:t> Si hubo aportes de bienes (ej. Inmuebles), bienes entregados en cancelación de derechos deben valuarse a valor en plaza ó valor de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4320" indent="-36432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263582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263582"/>
                </a:solidFill>
                <a:latin typeface="Verdana"/>
              </a:rPr>
              <a:t>- Pueden generarse resultados “fictos”: ¿a quién se atribuye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4320" indent="-36432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263582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263582"/>
                </a:solidFill>
                <a:latin typeface="Verdana"/>
              </a:rPr>
              <a:t>- </a:t>
            </a:r>
            <a:r>
              <a:rPr b="1" lang="en-US" sz="2000" spc="-1" strike="noStrike">
                <a:solidFill>
                  <a:srgbClr val="a72501"/>
                </a:solidFill>
                <a:latin typeface="Verdana"/>
              </a:rPr>
              <a:t>Criterio controvertido, alejado de la “permut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4320" indent="-36432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263582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15T16:34:04Z</dcterms:created>
  <dc:creator/>
  <dc:description/>
  <cp:keywords/>
  <dc:language>en-US</dc:language>
  <cp:lastModifiedBy>MARTHA</cp:lastModifiedBy>
  <cp:lastPrinted>2001-06-19T12:28:42Z</cp:lastPrinted>
  <dcterms:modified xsi:type="dcterms:W3CDTF">2012-09-19T16:32:36Z</dcterms:modified>
  <cp:revision>334</cp:revision>
  <dc:subject/>
  <dc:title>Sistema Tributario Argentin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